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198-269A-40ED-843A-3F9A394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534-7F5D-4E92-BDFB-179B1DAE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6028B-B3C4-47AC-9384-2E909B8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B1EAC-69CC-461F-8D8E-73A32530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F0D34-EF34-4308-9BEB-D690029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46579-4769-4562-910D-94BE71F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554C4-1C4D-46EB-BAE4-B38C652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5536A-A71F-4458-88F7-929A72D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94D1-196A-452A-9613-4D1EF1E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65236-7752-4858-BB5A-B3F7C614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7B02A-8E1A-403D-A7F3-729E4A91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AEEEB-3C0A-432E-B2CF-66C70921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131-A06A-480C-91A9-33C9E43B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91DA9-9233-407F-A770-C8FB55E6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DA8C7-4E7C-4AFD-AED5-F279577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C4C48-3C25-4F61-8427-3DA91C45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9207-7429-4B4C-B6D0-4CC30EF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C0F48-CEA8-4B01-A42A-DAC56FC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9C59D-F537-4C25-A150-9971EAB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5B7A-247B-4CC1-9360-58988E0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54ECB-341A-4041-9A43-31DBD6F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02D5F-34D6-4843-92CD-E5F4FDA1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D8427-F281-432E-B46D-8E21DB3D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723-89C2-4847-8611-C4ED0857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3494-B1A8-412F-BCAC-76154AD3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A0E23-BEFE-4213-AFD6-CED4584A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3DFAD-E6E2-457B-8929-43A04A4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3BC0A-539C-46F5-A2B1-47885742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2E039-0D7A-4B0A-B473-9141D3E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BD03-97C3-4F57-83F2-42A70C4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B0CB-5BCE-4102-ACFB-DFE140F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AECC5-9E81-4718-A98C-D353DE78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AC1E7-4C90-4EBA-8D30-A3E701C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D8BF4-C8AA-44EA-B33A-75115CB6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E388-FD20-49FE-9619-FC795F21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08108-12B9-4032-9FB4-92765D19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8296-F3E1-493A-9D3B-8331BC25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2228-2A9C-4BD4-A52A-E3A50006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56FBC-6137-40D0-92B0-C858A51E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51F05-A167-4808-B11A-8CD0BFB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DF257-7BB7-46C6-9B06-60BE10B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E7D3F-1631-4B25-BC3F-4094F033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44F55-B5B5-4EF9-94A8-F810AED4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CE359-8175-4524-B9F2-0845C273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D57E5-C322-4F76-9C27-46135DC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07FD-151D-418F-AAF5-44B8E4FB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1032F-7CDC-48A4-9821-DDDBAB1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9C8A5-41EC-4D6F-AA2C-9D629506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F8FA7-FB39-42AE-9FC7-490D65FE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07D2E-BCA4-4F44-BB2E-CBE8F869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FEE2F-8771-483C-86E1-F859B153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DAE7B-8FBE-4DEC-BA9F-5F1B219D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2E7AE-F7F2-4B3B-90D7-7398708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1D2D2-D8E5-4C8E-BF0D-4D1B3AFB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91B43-7427-4134-8BDE-C543227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A5537-747C-463F-BC5A-79230E3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4159-8F8A-42DD-A47D-9D6D180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33EFB-8166-4D10-8311-7571BAF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A65F0-6F89-408C-8DC0-4AAA2660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82249-8B85-47DC-93BD-AC048B2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10456-92C2-4A1B-B2C0-8483F89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49F89-AB5E-4542-8835-663C9821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33753-D1F6-4955-8B90-829DADA1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685BE-E7C7-43EB-BFDB-67285BEC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EB0F0-0443-44B2-B93B-58149B53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DE7FC1-18AF-463C-8D18-4839983C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53A4B-42F1-4819-B7B5-A785CA61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6C65-6203-4B21-974E-AB3E575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2F697-9896-4227-8F13-9875EB6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5CFF0-5435-4790-A7EC-4AA1FC51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A49B3-272B-4F20-8D87-49BB6716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E2BC7D-A6F5-4F6B-90D9-88FB629E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8A8BF-1401-4A59-B8C5-291D465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ADB98-C400-4197-8EFC-3055E68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16FF17-BF8B-4AF3-9D06-A50380BB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4CD42-0B6C-4D45-A097-3728C0A4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7E607-510E-4934-BE2C-51CD0479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A03B5-8378-4F9A-BC66-59EFC59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9EC7-6BC9-4B6E-BAA8-4D4C6723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C9189-6D1F-481D-8F2B-0A7A1ED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D37E2-E852-45A1-9114-EC7AFAC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A10DE-DA20-4E4B-9C34-5ADF7411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70E27-1DCA-471F-8832-CEE2D92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7317C-C673-4098-90D8-C4D62C94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F253A0-A54C-45FA-B059-F8CE2BF1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FCD8F-2DD4-498F-8046-0772E39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00645-7181-4238-823A-2C10C3F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92F9C-B40C-429D-B14E-6831D68E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515BB-83E6-4683-A16B-A7D9B189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4450-C4B2-4299-BB4A-95F83BD2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83635-7B12-469C-82E6-64C0637D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E7F53-8668-48E3-9E65-08DFF8A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759D8-767A-456E-BB9C-3CDC8914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1B833-6AD0-4301-B8F5-B989AAD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07974-979E-4C4E-951D-AC3304E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9E8A5-D559-4D15-963F-BE3A0F89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ABE1C-A203-4F73-A88A-D30B111A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29DA1-FF8E-48AD-85BD-57E55AB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D6A37-7BCB-4CE4-BB58-2A16DB9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A1D2A-5D2B-48C0-8BF2-1F7A845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B6A5-0A6F-4CBF-AE05-C910649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F1220-6D32-4391-A1C4-469684B0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CE733-AAC0-4A43-8FDC-D2A54244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D5523-7A3B-45A3-84FE-1F6C4750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CC597-33D2-45A4-B88A-BE9AA7DE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08FC8-42C0-432C-A952-E2E7387A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32EB5-D665-476B-A40C-67739DD1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50061-5483-4CD9-B075-FCCF809E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817A2-4F22-4449-9BE3-B9C9A03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C4E78-F4CB-4A91-AD65-FAE661F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3BB2E-3E85-4429-BD01-A9996401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D54-EB1E-461B-B7BC-DC7E7CF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1ABD-FBDF-490B-801F-9F3B4A6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3CC09-061F-473B-9BF5-771A927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9B303-54E8-4EFB-ADBF-0D48877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E2FAF-A655-4C01-A88F-23DB362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2AC47-01BF-4D60-A1BF-64EC8A89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8C476-FB29-43B9-A7FF-D5ADC8DB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D4447-6EE4-412A-A04A-B8F022F5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8308A-15BD-4535-9CA3-F089572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CD403A-4589-4E9D-A51F-C1709428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D69A4-B95D-4668-B161-9E2A664B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D8E9C-D96A-403C-813C-0CE5D37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567-148F-4864-B275-621C290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0F50A-AD38-4AFD-8BC2-78E64B41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8B357-4621-4A20-8FB3-5B2F2DA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6AC654-F0B6-46E2-9C61-7D9D6315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7B76-8FD2-4708-87F0-E0C4F19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4A1E86-72C3-45B2-83B2-D2494A1F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0EAE4-C613-47CE-92CC-9758FD0D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B5622-024D-4C82-97BB-57496E50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107E2-F533-4173-BC6E-6EBDA277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1D802-12D1-4D0B-83C3-E466E774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FB571-AD4F-4075-9EEE-F4277372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0EF-6D96-42BB-8F7B-71922F72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DE89E-8C2C-4A66-8BC9-C3334516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3767E-CB5C-4ED9-8A6C-B86ADE06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75338E-3EA2-4DB0-8109-452DD1E3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BF654-FC6A-4A6D-951D-6994E5EA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B9F1AC-9E72-49DD-BBEC-3333160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76F7C-9831-4055-96C4-8EED552B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C425D-FCFB-4CE1-A026-6DE07502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78DA5-469F-4CD7-B846-D05B89BD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06E96-70F2-40DF-84A6-4FC9AE7F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EB331-DB6C-4F83-AC1C-D56EED68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078-63FB-4B49-85A2-F07EA724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26107-6E7A-4C1B-AAB2-5862C069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64AAA6-AEAF-4A23-B8B6-EFAA3A2F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4D71E-1099-4A93-B041-E168D54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89FE9-A5A6-49D1-8F1E-A40F5D80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2C85C-414C-4C00-BE83-85BEA46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554801-18D1-45F2-985E-8F3F567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261FC-209E-4104-899A-413B652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63D72-CEFD-4B7C-8D85-8919605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90B5B4-8BEE-4B73-9877-6621893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846F7-BC79-4FE1-85DC-4CEA2578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DE9-3D0E-4209-88E9-7595917E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FED6B-0283-41D6-8F34-D7DDF01F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66BC8-CE69-4C88-BBBC-5541E97D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A8EDC-960D-45C3-B513-7EF5356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CE8D2-8BFB-4CA8-9508-CFE3112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9B5B5-62B4-4BCA-AED7-E76291D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8C00F-5F8F-41A3-BA43-94BB47E8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98689-2228-43F8-84EE-EA729C73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1AF92-6734-45A2-AABC-7551222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70CE1-1599-4466-95B5-C435411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D7BD8-08E9-4AF4-94CF-5564EC0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E5CD-28F1-4FDD-BD4B-8F1FE28E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8296C6-E877-4457-862F-997DB91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DF81F-6E9A-4879-85F5-F42C22F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F29FE-479A-4EB6-9666-B67C6294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7C2C-6C7B-4046-A072-DB71455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B0C9-D4E0-4D80-991B-40FFEE9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9BA6-EFD6-4AA7-9C4C-9E2677E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8718F-59F2-40AA-8C88-DEA6EB0E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608-977B-42B3-9536-9CCD589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4302-08F8-48DA-994F-F24EF93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D764-5B11-4833-A589-61097A3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15F9-0CFB-4678-BB11-DDF85A2E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4CA7-0474-4B50-9CF3-ADFFB56D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2D17-9C8B-4AE5-B19D-64F9B19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6FB6-91C8-4748-992D-01E61845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7BF4-F16B-4831-8AC4-60711C7F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5088-2DD6-4B45-80D6-D5C15FFD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9C63-FACA-48F9-9B30-16ACA75C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E5DF-B517-43E6-B2C5-523CC96E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53A-28B8-416F-9D1C-781371A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8978E-EA16-4940-BB6A-24B40C9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91DF-F809-4DC7-BF86-2D92C485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129B-CAB7-4C60-9EC9-406EFE10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5D41-102B-4B13-B2DE-F2D6CD61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3162-E969-4D4E-8FF9-2C4ED3D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B569-70EE-48D8-8470-2B4CB17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38E7-BB8B-4268-8346-152CD1CA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F860-DE2B-4C1D-BB00-9C01033A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6D9EE-446C-4251-ABF7-B35DE8D7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C9E7-0BD0-4E39-864B-EF0304FF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1EC-9E6C-481A-BEF3-B9CB3CF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6B70-B43E-4E27-AD70-0930B5A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D61AB-C65A-4A31-B472-FEE4CAE6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57E4-9142-497A-8356-B29DB69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8CF6-F15C-456A-850D-C5930D5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1A7C-2455-49E1-8C88-389E79B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87AD-11D4-4E7A-A357-0AF6319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A07B-8924-4188-8E04-FC969170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10C0-4C7B-4FCC-BBCD-266CB3A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28AC4-6828-4D31-BD2D-6957C487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1F30-6340-4ECB-83FA-BC916DF9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0C7-1C78-41EC-871F-E30130E5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8AD49-02CE-41D3-BEAF-8B2555B1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3B86-028D-4365-A34D-C06F4F37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8E857-F564-41D3-926B-8D15AF1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A7A5-15B5-450F-83A6-250B021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CC4D3-023A-4450-B29A-4CE096A1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3C0DE-1338-497E-AFD3-D11205E5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4609-D07F-4027-B22C-4AF1FDC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62BC-6FE5-44F3-80C6-B196FD33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F5481-2C8B-4817-BB84-81311B0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CD0E2-5746-42FE-BBC9-CC3324B4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5FA-29C6-4F9F-93DD-7B83737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BCED-444A-4CB5-964B-4B30198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74519-6619-4043-A263-0C86C374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4FA8-A354-481B-A08D-ECAB2194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AF4D-CF1D-4DAD-9390-A0193BE8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71F95-6E02-44A4-8CC4-175E58E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E2614-1C24-4005-B8C4-B5CCCF04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8712D-D483-4138-8F30-F8D5AB6F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2A255-ADA5-4DE3-9B00-13F9B65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337E1-6204-4E83-8933-13F5ADCD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E5FC5-5CD0-4279-8949-F22FCEB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98F-7F36-4E04-A4C9-4D49A39D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31EE3-0FC6-4EC5-9AA2-70B4F57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F0954-1C1F-4409-98DD-CC9E5B6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583EF-22B9-4A5A-B1BB-9AA39FF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69B8D-C32E-4263-AE18-31DA0CEB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95CF5-D94B-4FD1-9278-16044A11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DE9F-14ED-4323-8F5B-D7981C02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5A2E1-4585-44F8-B328-CAF3BBF0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F7EE-845F-4506-BE50-2197FFF4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23E8C-F250-4BBC-B940-3943D29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E90E3-A986-466A-9324-722E45DA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034-D508-4BF8-8F5F-66D26A9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6EFC9-FC6E-4D32-B7B3-F88EE6F3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06E09-F440-452E-BC75-AF88697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2A39-C2E7-48B3-897F-006F499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E7745-48E2-42A2-B74B-AFE75C2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E0023-AF69-4209-AAD8-E24E976B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0383-2D20-4503-A098-AC1AEB0F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0EA0-210B-4656-8D72-9FB36384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426C3-57ED-41D9-983F-9BD6C516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CF25D-5951-450E-B075-2EEFB6D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AD1C-C3AD-4412-B4D7-50524A61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18B-C6FB-4821-B44E-8BE59B8116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9B7D-1E5F-465F-BD34-CC90ACE18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2FAC-4EE3-45FD-9364-84A943AC61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3DE1-CDBE-4338-ACD1-309435CA1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0FB-3826-4C10-8F6C-036931957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049-2C25-4552-82BF-184174852F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4A1-CE8F-4A7B-9D79-F322BA37D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D65-34F8-464E-ADF8-6FDF20046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94F-B5EC-486E-87DF-4031AC219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EDBB-63DC-4E8D-9AA2-1F7728484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B12-2FB3-4CD1-AE21-12078D66E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55F9-31F8-4FD5-8CAA-81C0B5168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BA6-B5A0-4E1E-AE40-D0D89B1673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606-41B4-4D15-A172-04CF40BF7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EED9-0053-4BDA-A6E7-A00416B76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1E45-E8BB-4428-9F16-893BD65AE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CC75-489B-43F9-BC7A-3A3FC95B8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9BF1-56EE-49C9-A446-F5B2C460B8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5091-7DA6-4EFC-87F2-436917613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8F3A-7492-45F8-9894-36D5AAFBB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F8F8-D133-47D3-82A5-6B9957B79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5D8-689D-4298-8A15-ECA1382DDF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0BC-4C39-4394-ADA6-E9D3E69F2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C37-76B9-4F9F-86BE-3103BB15D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B921-3B48-488E-BAFE-8DD785E0D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E86-F4C0-4AFF-B578-6DF45B9DD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ECB-3C3D-41D0-89C1-B2625BFF2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F54-5701-40AC-8A33-9A71675887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0A2-9ABB-4001-8BF5-AEC2CAC67D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CDC7-4B63-4C34-A6A1-84B2DF55B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4C65-8674-42F4-BA2E-48AD0D1AF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02D4-FA71-4A2C-A50E-A52FACAE4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7235-70FC-41B4-9957-E69821C48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F09-EE86-473D-AD9D-58888ED85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3407-BC0A-4311-B6A4-7E241AD0C4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1D7-3FB9-4484-84D4-D1CE005C43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188-5CF5-4C64-89E4-F236BEB86A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8C82-F763-404D-9609-5C36EA565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D20-55B5-4F01-9A0D-89B5769826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77FD-486E-4EB4-8D60-9F70805478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219480"/>
            <a:ext cx="3924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60430"/>
          <p:cNvGrpSpPr/>
          <p:nvPr/>
        </p:nvGrpSpPr>
        <p:grpSpPr>
          <a:xfrm>
            <a:off x="324000" y="947880"/>
            <a:ext cx="8415360" cy="5073480"/>
            <a:chOff x="324000" y="947880"/>
            <a:chExt cx="8415360" cy="5073480"/>
          </a:xfrm>
        </p:grpSpPr>
        <p:pic>
          <p:nvPicPr>
            <p:cNvPr id="923" name="图片 60428" descr=""/>
            <p:cNvPicPr/>
            <p:nvPr/>
          </p:nvPicPr>
          <p:blipFill>
            <a:blip r:embed="rId1"/>
            <a:stretch/>
          </p:blipFill>
          <p:spPr>
            <a:xfrm>
              <a:off x="404640" y="947880"/>
              <a:ext cx="8334720" cy="49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图片 60429" descr=""/>
            <p:cNvPicPr/>
            <p:nvPr/>
          </p:nvPicPr>
          <p:blipFill>
            <a:blip r:embed="rId2"/>
            <a:stretch/>
          </p:blipFill>
          <p:spPr>
            <a:xfrm>
              <a:off x="324000" y="5300640"/>
              <a:ext cx="258120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1959120"/>
            <a:ext cx="230364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971640" y="2276640"/>
            <a:ext cx="302400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971640" y="3182760"/>
            <a:ext cx="2303280" cy="319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30243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84360" y="4422600"/>
            <a:ext cx="23032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755640" y="4740120"/>
            <a:ext cx="302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组合 59412"/>
          <p:cNvGrpSpPr/>
          <p:nvPr/>
        </p:nvGrpSpPr>
        <p:grpSpPr>
          <a:xfrm>
            <a:off x="138240" y="1125360"/>
            <a:ext cx="8867520" cy="4380120"/>
            <a:chOff x="138240" y="1125360"/>
            <a:chExt cx="8867520" cy="4380120"/>
          </a:xfrm>
        </p:grpSpPr>
        <p:pic>
          <p:nvPicPr>
            <p:cNvPr id="932" name="图片 59410" descr=""/>
            <p:cNvPicPr/>
            <p:nvPr/>
          </p:nvPicPr>
          <p:blipFill>
            <a:blip r:embed="rId1"/>
            <a:stretch/>
          </p:blipFill>
          <p:spPr>
            <a:xfrm>
              <a:off x="138240" y="1352520"/>
              <a:ext cx="8867520" cy="41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图片 59411" descr=""/>
            <p:cNvPicPr/>
            <p:nvPr/>
          </p:nvPicPr>
          <p:blipFill>
            <a:blip r:embed="rId2"/>
            <a:stretch/>
          </p:blipFill>
          <p:spPr>
            <a:xfrm>
              <a:off x="3635280" y="1125360"/>
              <a:ext cx="410544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5640" y="2665440"/>
            <a:ext cx="266400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55640" y="2997360"/>
            <a:ext cx="41767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84360" y="4811760"/>
            <a:ext cx="19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2916360" y="4811760"/>
            <a:ext cx="19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55640" y="5143680"/>
            <a:ext cx="7488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162000" y="1733400"/>
            <a:ext cx="8820000" cy="3391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826920" y="2766960"/>
            <a:ext cx="2449800" cy="319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826920" y="3068640"/>
            <a:ext cx="338472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5148360" y="2766960"/>
            <a:ext cx="244944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5148360" y="3068640"/>
            <a:ext cx="338436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5616360" cy="319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684360" y="4235400"/>
            <a:ext cx="36813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539640" y="4565520"/>
            <a:ext cx="5616720" cy="6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0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